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DAE7-C2CA-4FAA-95DA-66A15EEA5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6E93-4778-4E45-987B-C968945FF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9CF1-1B3A-477D-BF1A-253F7BA84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2521-7BB7-4DCD-8449-F3E4B9CC5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088E-9D14-48A5-BDEE-C78AC9868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B082-A9E9-40AE-83B6-F1EDD9397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A33F-4197-47DC-8798-196A979D3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7074-90C8-4A0E-9316-C5569281A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81E0-6F61-4C01-880D-B1FA5DD45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DEBB-3940-45C0-939D-86A120AFF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4C20-9AD5-49A3-B8D3-05ADD999A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818A-1002-4CE1-8DB4-253F9A4AA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F6B5F-A774-4A54-AB07-5C4CABEDCD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vement is always Tougher in Rus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Quynh Vu and Ethan S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aports in Rus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wo most important are Kaliningrad and St. Petersbur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liningrad is Russia’s only Baltic port that remains free from ice year rou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ilway Transport in Rus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lway transport in Russia mostly under the control state-run Russian monopo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railroads are in western/southern Russ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rans-Siberian railroad is in southern Russ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133720" y="3505320"/>
            <a:ext cx="5638680" cy="3139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4:21:00Z</dcterms:created>
  <dc:creator> </dc:creator>
  <dc:description/>
  <dc:language>en-US</dc:language>
  <cp:lastModifiedBy> </cp:lastModifiedBy>
  <dcterms:modified xsi:type="dcterms:W3CDTF">2010-12-14T14:30:57Z</dcterms:modified>
  <cp:revision>3</cp:revision>
  <dc:subject/>
  <dc:title>Seaports in Russia</dc:title>
</cp:coreProperties>
</file>